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7E2-7025-4BB1-8E0B-5FF24822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66B-AF37-4BE2-ADAA-ED16A3F0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B9D-AC73-4542-92A8-0A30E484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B2F-E70A-4D1A-A903-CA1838B5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DDD-7B5D-446B-8FC8-CFC0C70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5E6-6F23-45B3-A4D5-50A697F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B49-82C6-4CF7-8CF9-26BE2F3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86D-C961-46DC-8B10-D04A7B9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647-0980-4E30-9322-9E3D024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F9D-69F2-4886-ABA1-094F36B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4FE-386B-4808-9139-7FB93DDC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6CF-D356-4C86-9302-4E22F8F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A3F-5D81-4C36-B789-1A390690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entace maturitního výrob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65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 p t i c k é  p o j í t k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3086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pracoval Petr Sádecký                                                                    2004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wist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1 MHz oscilá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apájecí obv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Přijímací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Vysílací č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19840" y="3938760"/>
            <a:ext cx="3295440" cy="2187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019840" y="1600200"/>
            <a:ext cx="3294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chanická část - ro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Zaostření paprsku do ohni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ržení rour v rovnoběžné polo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19840" y="1600200"/>
            <a:ext cx="329400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19840" y="3938760"/>
            <a:ext cx="329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A to je vše, děkuji vám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2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2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sah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Výhody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Nevýhody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Blokové schéma optického pojí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Vysíla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Přijím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Twist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Georgia"/>
              </a:rPr>
              <a:t>Mechanická č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hody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3938760"/>
            <a:ext cx="82184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Vysoká odolnost proti ru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Přenos není ovlivněn „přeplněností“ pásma 2,4 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Stabilita přeno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Optické pojítko má stabilní rychlost přenosu 10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eorgia"/>
              </a:rPr>
              <a:t>Minimalizace odposle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Georgia"/>
              </a:rPr>
              <a:t>Přesně mířený paprsek lze jen ztěží odposloucháv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3933720"/>
            <a:ext cx="33224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20840" y="1733400"/>
            <a:ext cx="6502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výhody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Ovlivnitelnost počas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Optické pojítko není schopno přenosu za nepříznivých podmínek jako 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hustá ml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sněž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eorgia"/>
              </a:rPr>
              <a:t>hustý déš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utnost přímé viditel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eorgia"/>
              </a:rPr>
              <a:t>Bez přímé viditelnosti se přenos neuskuteční, protože paprsek musí být zaměřen dosti přesně.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1600200"/>
            <a:ext cx="396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54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03640" y="1989000"/>
            <a:ext cx="3167280" cy="4535640"/>
            <a:chOff x="5003640" y="1989000"/>
            <a:chExt cx="3167280" cy="4535640"/>
          </a:xfrm>
        </p:grpSpPr>
        <p:sp>
          <p:nvSpPr>
            <p:cNvPr id="57" name=""/>
            <p:cNvSpPr/>
            <p:nvPr/>
          </p:nvSpPr>
          <p:spPr>
            <a:xfrm>
              <a:off x="5003640" y="4221000"/>
              <a:ext cx="309564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3640" y="1989000"/>
              <a:ext cx="316728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íl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97080" cy="2055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ysíl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Napájecí obv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Vysílací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iferenciální omez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76720" y="4292640"/>
            <a:ext cx="3027600" cy="154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4480200" cy="322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27280" y="2638440"/>
            <a:ext cx="6516720" cy="148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435640" y="549360"/>
            <a:ext cx="29084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80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19640" y="1989000"/>
            <a:ext cx="3167280" cy="4535640"/>
            <a:chOff x="5219640" y="1989000"/>
            <a:chExt cx="3167280" cy="4535640"/>
          </a:xfrm>
        </p:grpSpPr>
        <p:sp>
          <p:nvSpPr>
            <p:cNvPr id="83" name=""/>
            <p:cNvSpPr/>
            <p:nvPr/>
          </p:nvSpPr>
          <p:spPr>
            <a:xfrm>
              <a:off x="5219640" y="4221000"/>
              <a:ext cx="309564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19640" y="1989000"/>
              <a:ext cx="316728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32000" y="1773360"/>
            <a:ext cx="3024360" cy="57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síl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1773360"/>
            <a:ext cx="143856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jím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35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25856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řijím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Přijímací dioda a zesil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Diferenciální omez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4162320"/>
            <a:ext cx="403848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64000" y="260280"/>
            <a:ext cx="3008520" cy="374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3860640"/>
            <a:ext cx="31831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148360" y="1989000"/>
            <a:ext cx="3166920" cy="4535640"/>
            <a:chOff x="5148360" y="1989000"/>
            <a:chExt cx="3166920" cy="4535640"/>
          </a:xfrm>
        </p:grpSpPr>
        <p:sp>
          <p:nvSpPr>
            <p:cNvPr id="113" name=""/>
            <p:cNvSpPr/>
            <p:nvPr/>
          </p:nvSpPr>
          <p:spPr>
            <a:xfrm>
              <a:off x="514836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836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55640" y="1989000"/>
            <a:ext cx="3166920" cy="4535640"/>
            <a:chOff x="755640" y="1989000"/>
            <a:chExt cx="3166920" cy="4535640"/>
          </a:xfrm>
        </p:grpSpPr>
        <p:sp>
          <p:nvSpPr>
            <p:cNvPr id="116" name=""/>
            <p:cNvSpPr/>
            <p:nvPr/>
          </p:nvSpPr>
          <p:spPr>
            <a:xfrm>
              <a:off x="755640" y="4221000"/>
              <a:ext cx="3095280" cy="2303640"/>
            </a:xfrm>
            <a:prstGeom prst="rect">
              <a:avLst/>
            </a:prstGeom>
            <a:solidFill>
              <a:srgbClr val="ffff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640" y="1989000"/>
              <a:ext cx="3166920" cy="216072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kové schéma optického poj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10800000">
            <a:off x="3059280" y="2781000"/>
            <a:ext cx="3024000" cy="561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32000" y="1773360"/>
            <a:ext cx="3024360" cy="576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6436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2560" y="1773360"/>
            <a:ext cx="129708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2560" y="2781360"/>
            <a:ext cx="1297080" cy="576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2781360"/>
            <a:ext cx="1438560" cy="5763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1773360"/>
            <a:ext cx="1438560" cy="576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508640"/>
            <a:ext cx="7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3528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56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54764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472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74072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40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74072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4072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659280" y="198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86544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941720"/>
            <a:ext cx="86508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37236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3:36:50Z</dcterms:created>
  <dc:creator>Zezael</dc:creator>
  <dc:description/>
  <dc:language>en-US</dc:language>
  <cp:lastModifiedBy>Zezael</cp:lastModifiedBy>
  <dcterms:modified xsi:type="dcterms:W3CDTF">2005-05-08T18:21:06Z</dcterms:modified>
  <cp:revision>30</cp:revision>
  <dc:subject/>
  <dc:title>Prezentace maturitního výrobku </dc:title>
</cp:coreProperties>
</file>